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5879-473B-4B51-B7A0-FBC8F6198C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67F2-1B6C-4BAE-8C18-3D5A23CEDC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FDD-85C7-44E0-AA20-CAF7F2BDAC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93B9-AA30-49A6-AAC7-8593154C93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FD72-7BA7-434F-981B-97A380330A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805-F2B8-4C31-9DEA-B7D7651E52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54F2-4859-426F-B4F5-CA1970227B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5E6-6218-46D4-A04A-25D51CDAEA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3204-8313-4B10-AD7F-17CAB2A335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5633-B2B3-41B1-8CFA-63F4AF13EA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4FE-92B9-4886-AC02-26CAC7D9E8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F940-9C36-45FF-B333-205424CE2D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1FC-BB3E-475E-9C20-EE87B34EB0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E4A0-BF8B-4981-8712-DC338EAD1E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C86-CAD0-452E-BAE3-ADF5A5B4EF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B742-1664-46F5-8C72-92A6139D1E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3118-A636-4255-BA63-4652757464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A7E5-61C5-4E65-AFFD-8633DEB6AC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0BB-18DD-446C-83D1-513E4EEB96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0D0B-234E-42FD-B9EE-3DE824CD26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425-90F8-4854-B82A-3F6365FD23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2F5-8CD8-4F85-8B3F-BC5D7B82D6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015-05F6-4365-A9DB-840F5A234D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3C3-64D7-42EC-A839-95039D8CC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414B-666F-45D0-8548-8419AAFED0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15C-5CE8-449D-A4D7-347A85C2F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021-1B77-43A7-9317-0AB74BA0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74E-BD22-4C21-8C9F-A68AAE50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D33-745D-4976-B5FB-36C63BF8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CA9-6A6E-4C2D-8338-4D4F92C4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5EF-CB1A-4BA1-937F-17F32C1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729-5CDD-411E-BB97-EC795D52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D5F-B0A5-4841-BC67-233939D2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301-1E12-4C48-9E78-72990FB1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068-28C9-409A-9A7B-408A53C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DEB-85E7-477F-BC4B-CA4D2A0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E32-966B-45CC-BA08-B0BAF1C9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785-90C0-4182-9AFC-1CE8A28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C332-9940-4FC2-8C5B-9A56C3D33A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217008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537080" y="428760"/>
            <a:ext cx="892080" cy="115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072200" y="519120"/>
            <a:ext cx="12924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ectors of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elements (independant for e)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calcul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jection of e on a tangential plane to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 is the projection of e and h the distance between experiments a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 and h are independant (orthog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471680" y="2309760"/>
                <a:ext cx="5691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freedom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rPr>
                            <m:lit/>
                            <m:nor/>
                          </m:rPr>
                          <m:t xml:space="preserve">re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freedom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rPr>
                            <m:lit/>
                            <m:nor/>
                          </m:rPr>
                          <m:t xml:space="preserve">re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5181480" y="4724280"/>
                <a:ext cx="342900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À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À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À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685800" y="5562720"/>
                <a:ext cx="4114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10"/>
          <p:cNvCxnSpPr/>
          <p:nvPr/>
        </p:nvCxnSpPr>
        <p:spPr>
          <a:xfrm>
            <a:off x="1371600" y="6019560"/>
            <a:ext cx="5944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1"/>
          <p:cNvCxnSpPr/>
          <p:nvPr/>
        </p:nvCxnSpPr>
        <p:spPr>
          <a:xfrm flipV="1">
            <a:off x="1371240" y="2133000"/>
            <a:ext cx="1080" cy="388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Text Box 12"/>
          <p:cNvSpPr/>
          <p:nvPr/>
        </p:nvSpPr>
        <p:spPr>
          <a:xfrm>
            <a:off x="6462720" y="60674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asur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63560" y="16765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asur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16"/>
          <p:cNvSpPr/>
          <p:nvPr/>
        </p:nvSpPr>
        <p:spPr>
          <a:xfrm flipH="1">
            <a:off x="2057400" y="2971800"/>
            <a:ext cx="5029200" cy="2895480"/>
          </a:xfrm>
          <a:custGeom>
            <a:avLst/>
            <a:gdLst>
              <a:gd name="textAreaLeft" fmla="*/ 360 w 5029200"/>
              <a:gd name="textAreaRight" fmla="*/ 5029920 w 50292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fill="none" w="21600" h="2197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4"/>
                  <a:pt x="21598" y="21848"/>
                  <a:pt x="21596" y="21973"/>
                </a:cubicBezTo>
              </a:path>
              <a:path stroke="0" w="21600" h="2197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4"/>
                  <a:pt x="21598" y="21848"/>
                  <a:pt x="21596" y="21973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561320" y="20574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eriment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20"/>
          <p:cNvCxnSpPr>
            <a:stCxn id="101" idx="5"/>
          </p:cNvCxnSpPr>
          <p:nvPr/>
        </p:nvCxnSpPr>
        <p:spPr>
          <a:xfrm>
            <a:off x="2873520" y="2568240"/>
            <a:ext cx="1775520" cy="3375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Text Box 21"/>
          <p:cNvSpPr/>
          <p:nvPr/>
        </p:nvSpPr>
        <p:spPr>
          <a:xfrm>
            <a:off x="2422440" y="477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3"/>
          <p:cNvCxnSpPr/>
          <p:nvPr/>
        </p:nvCxnSpPr>
        <p:spPr>
          <a:xfrm flipV="1">
            <a:off x="1523880" y="1828440"/>
            <a:ext cx="3810960" cy="373464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106" name="AutoShape 24"/>
          <p:cNvCxnSpPr/>
          <p:nvPr/>
        </p:nvCxnSpPr>
        <p:spPr>
          <a:xfrm>
            <a:off x="2819160" y="2514240"/>
            <a:ext cx="3564360" cy="342972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7" name="Object 25"/>
              <p:cNvSpPr txBox="1"/>
              <p:nvPr/>
            </p:nvSpPr>
            <p:spPr>
              <a:xfrm>
                <a:off x="2766960" y="434340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26"/>
          <p:cNvSpPr/>
          <p:nvPr/>
        </p:nvSpPr>
        <p:spPr>
          <a:xfrm>
            <a:off x="3413160" y="40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7"/>
              <p:cNvSpPr txBox="1"/>
              <p:nvPr/>
            </p:nvSpPr>
            <p:spPr>
              <a:xfrm>
                <a:off x="3657600" y="3657600"/>
                <a:ext cx="281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110" name="AutoShape 28"/>
          <p:cNvCxnSpPr/>
          <p:nvPr/>
        </p:nvCxnSpPr>
        <p:spPr>
          <a:xfrm flipH="1">
            <a:off x="2666520" y="2514240"/>
            <a:ext cx="153360" cy="342972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111" name="Text Box 29"/>
          <p:cNvSpPr/>
          <p:nvPr/>
        </p:nvSpPr>
        <p:spPr>
          <a:xfrm>
            <a:off x="2438280" y="309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3032280" y="30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2971800" y="3124080"/>
                <a:ext cx="25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2438280" y="33782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 Box 33"/>
          <p:cNvSpPr/>
          <p:nvPr/>
        </p:nvSpPr>
        <p:spPr>
          <a:xfrm>
            <a:off x="2879640" y="37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2895480" y="3740040"/>
                <a:ext cx="217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35"/>
          <p:cNvSpPr/>
          <p:nvPr/>
        </p:nvSpPr>
        <p:spPr>
          <a:xfrm>
            <a:off x="3489480" y="263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6"/>
              <p:cNvSpPr txBox="1"/>
              <p:nvPr/>
            </p:nvSpPr>
            <p:spPr>
              <a:xfrm>
                <a:off x="3352680" y="2743200"/>
                <a:ext cx="244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37"/>
          <p:cNvSpPr/>
          <p:nvPr/>
        </p:nvSpPr>
        <p:spPr>
          <a:xfrm>
            <a:off x="7149240" y="2638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6613560" y="378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9"/>
              <p:cNvSpPr txBox="1"/>
              <p:nvPr/>
            </p:nvSpPr>
            <p:spPr>
              <a:xfrm>
                <a:off x="7243920" y="3459240"/>
                <a:ext cx="77148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»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finitions and properties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sher Snedecor test for confidence domai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293840" y="2365200"/>
                <a:ext cx="630864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with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q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»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1219320" y="4876920"/>
                <a:ext cx="73911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ermination of parameters confidence domain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rs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identify the estimated parameters by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determine the confidence domain of parameters by optimization of the same function than in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339840" y="2432160"/>
                <a:ext cx="8423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i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,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q</m:t>
                                                    </m:r>
                                                  </m:e>
                                                  <m:sup/>
                                                </m:sSup>
                                              </m:e>
                                            </m:d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i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,</m:t>
                                                </m:r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q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speed identification of a bu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rst measurement : length of 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nd measurement : time to reach this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re the coordinates of the projection of the measurements on the tangent plane to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2209680" y="2971800"/>
                <a:ext cx="4843440" cy="24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α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g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6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  <m:r>
                                          <m:t xml:space="preserve">α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2684520" y="2487600"/>
                <a:ext cx="3892320" cy="337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α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g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2 : application to a simple enzymatic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 enzyme E with a substrate S transitorily gives a specific complex enzyme-substrate C before the researched product P (Michaelis-Menten kine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2362320" y="3567240"/>
                <a:ext cx="31305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2362320" y="4557600"/>
                <a:ext cx="3720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2438280" y="5510160"/>
                <a:ext cx="26352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E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2 : application to a simple enzymatic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142920" y="2216160"/>
          <a:ext cx="460224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216160"/>
                    <a:ext cx="46022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4398840" y="2214720"/>
          <a:ext cx="4602240" cy="464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8840" y="2214720"/>
                    <a:ext cx="460224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 estimation by evolutionary algorithm (or genetic) = set of solutions (defined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domain determination by evolutionary algorithm = set of solutions (defined number) with end test by corresponding Fischer Snedec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t of parameters vector (confidence domain representation) = possibility to calculate correlations betwee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ection of high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 vizualize the confidence domain = projection of the solutions set on 2 parameter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n elliptical confidence domain = non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imated parameters not at the confidence domain center = non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s between parameters can be reduced by new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cess modelling and optimization aid</a:t>
            </a:r>
            <a:br>
              <a:rPr sz="4400"/>
            </a:br>
            <a:br>
              <a:rPr sz="20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Parametric identification</a:t>
            </a:r>
            <a:br>
              <a:rPr sz="3600"/>
            </a:br>
            <a:r>
              <a:rPr b="1" lang="fr-FR" sz="3600" spc="-1" strike="noStrike">
                <a:solidFill>
                  <a:srgbClr val="f4171f"/>
                </a:solidFill>
                <a:latin typeface="Arial"/>
              </a:rPr>
              <a:t>from experiment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4266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TEIX Chris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y of Lor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actions and Process Engineering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5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6"/>
          <p:cNvCxnSpPr/>
          <p:nvPr/>
        </p:nvCxnSpPr>
        <p:spPr>
          <a:xfrm flipV="1">
            <a:off x="1676160" y="2285640"/>
            <a:ext cx="1080" cy="373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Oval 7"/>
          <p:cNvSpPr/>
          <p:nvPr/>
        </p:nvSpPr>
        <p:spPr>
          <a:xfrm rot="19764000">
            <a:off x="2514240" y="3517560"/>
            <a:ext cx="472428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8"/>
          <p:cNvCxnSpPr/>
          <p:nvPr/>
        </p:nvCxnSpPr>
        <p:spPr>
          <a:xfrm>
            <a:off x="2817360" y="5333760"/>
            <a:ext cx="2520" cy="68652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155" name="AutoShape 9"/>
          <p:cNvCxnSpPr/>
          <p:nvPr/>
        </p:nvCxnSpPr>
        <p:spPr>
          <a:xfrm>
            <a:off x="6933960" y="3067200"/>
            <a:ext cx="1080" cy="295344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sp>
        <p:nvSpPr>
          <p:cNvPr id="156" name="Text Box 10"/>
          <p:cNvSpPr/>
          <p:nvPr/>
        </p:nvSpPr>
        <p:spPr>
          <a:xfrm>
            <a:off x="3508920" y="60199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4171f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935040" y="55627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62840" y="18288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3"/>
          <p:cNvCxnSpPr/>
          <p:nvPr/>
        </p:nvCxnSpPr>
        <p:spPr>
          <a:xfrm>
            <a:off x="1676520" y="4114800"/>
            <a:ext cx="4496400" cy="216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160" name="Text Box 15"/>
          <p:cNvSpPr/>
          <p:nvPr/>
        </p:nvSpPr>
        <p:spPr>
          <a:xfrm>
            <a:off x="5236560" y="3124080"/>
            <a:ext cx="146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c18f4"/>
                </a:solidFill>
                <a:latin typeface="Arial"/>
              </a:rPr>
              <a:t>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16"/>
          <p:cNvCxnSpPr/>
          <p:nvPr/>
        </p:nvCxnSpPr>
        <p:spPr>
          <a:xfrm flipH="1">
            <a:off x="1676160" y="4114800"/>
            <a:ext cx="2134080" cy="2160"/>
          </a:xfrm>
          <a:prstGeom prst="straightConnector1">
            <a:avLst/>
          </a:prstGeom>
          <a:ln w="19080">
            <a:solidFill>
              <a:srgbClr val="f4171f"/>
            </a:solidFill>
            <a:miter/>
          </a:ln>
        </p:spPr>
      </p:cxnSp>
      <p:cxnSp>
        <p:nvCxnSpPr>
          <p:cNvPr id="162" name="AutoShape 17"/>
          <p:cNvCxnSpPr/>
          <p:nvPr/>
        </p:nvCxnSpPr>
        <p:spPr>
          <a:xfrm>
            <a:off x="380952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cxnSp>
        <p:nvCxnSpPr>
          <p:cNvPr id="163" name="AutoShape 18"/>
          <p:cNvCxnSpPr/>
          <p:nvPr/>
        </p:nvCxnSpPr>
        <p:spPr>
          <a:xfrm>
            <a:off x="6171840" y="4114800"/>
            <a:ext cx="1080" cy="381600"/>
          </a:xfrm>
          <a:prstGeom prst="straightConnector1">
            <a:avLst/>
          </a:prstGeom>
          <a:ln w="19080">
            <a:solidFill>
              <a:srgbClr val="0c18f4"/>
            </a:solidFill>
            <a:miter/>
          </a:ln>
        </p:spPr>
      </p:cxnSp>
      <p:sp>
        <p:nvSpPr>
          <p:cNvPr id="164" name="Text Box 19"/>
          <p:cNvSpPr/>
          <p:nvPr/>
        </p:nvSpPr>
        <p:spPr>
          <a:xfrm>
            <a:off x="153360" y="36576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22"/>
          <p:cNvCxnSpPr/>
          <p:nvPr/>
        </p:nvCxnSpPr>
        <p:spPr>
          <a:xfrm>
            <a:off x="3428640" y="3252600"/>
            <a:ext cx="801000" cy="557640"/>
          </a:xfrm>
          <a:prstGeom prst="straightConnector1">
            <a:avLst/>
          </a:prstGeom>
          <a:ln w="28440">
            <a:solidFill>
              <a:srgbClr val="0c18f4"/>
            </a:solidFill>
            <a:miter/>
            <a:tailEnd len="med" type="triangle" w="med"/>
          </a:ln>
        </p:spPr>
      </p:cxnSp>
      <p:sp>
        <p:nvSpPr>
          <p:cNvPr id="166" name="Text Box 23"/>
          <p:cNvSpPr/>
          <p:nvPr/>
        </p:nvSpPr>
        <p:spPr>
          <a:xfrm>
            <a:off x="2060280" y="281952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id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3264120" y="202896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lined confidence domain =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316280" y="2454120"/>
            <a:ext cx="17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interval = overall range of the corresponding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duced confidence interval = range of the parameter when the others take their estima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the reduced confidence interval contains the 0 value, the corresponding parameter is not significantly differen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en a parameter is not significantly different to 0, a model reduction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arison between experimental data with corresponding simulations from model and estimate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fidence interval of model prediction from Student te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 an experimental data is not include in the corresponding confidence interval the measurement is maybe devi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228600" y="4130640"/>
                <a:ext cx="8535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3"/>
          <p:cNvCxnSpPr/>
          <p:nvPr/>
        </p:nvCxnSpPr>
        <p:spPr>
          <a:xfrm>
            <a:off x="1676520" y="6019560"/>
            <a:ext cx="6248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4"/>
          <p:cNvCxnSpPr/>
          <p:nvPr/>
        </p:nvCxnSpPr>
        <p:spPr>
          <a:xfrm flipV="1">
            <a:off x="1676160" y="2285640"/>
            <a:ext cx="1080" cy="373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 Box 9"/>
          <p:cNvSpPr/>
          <p:nvPr/>
        </p:nvSpPr>
        <p:spPr>
          <a:xfrm>
            <a:off x="7469640" y="556272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59360" y="18288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asur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AutoShape 21"/>
          <p:cNvCxnSpPr/>
          <p:nvPr/>
        </p:nvCxnSpPr>
        <p:spPr>
          <a:xfrm flipV="1">
            <a:off x="1676520" y="2285640"/>
            <a:ext cx="4953240" cy="3734640"/>
          </a:xfrm>
          <a:prstGeom prst="straightConnector1">
            <a:avLst/>
          </a:prstGeom>
          <a:ln w="12600">
            <a:solidFill>
              <a:srgbClr val="f4171f"/>
            </a:solidFill>
            <a:miter/>
          </a:ln>
        </p:spPr>
      </p:cxnSp>
      <p:cxnSp>
        <p:nvCxnSpPr>
          <p:cNvPr id="181" name="AutoShape 22"/>
          <p:cNvCxnSpPr/>
          <p:nvPr/>
        </p:nvCxnSpPr>
        <p:spPr>
          <a:xfrm flipV="1">
            <a:off x="2133720" y="2285640"/>
            <a:ext cx="4953240" cy="3734640"/>
          </a:xfrm>
          <a:prstGeom prst="straightConnector1">
            <a:avLst/>
          </a:prstGeom>
          <a:ln w="28440">
            <a:solidFill>
              <a:srgbClr val="0c18f4"/>
            </a:solidFill>
            <a:miter/>
          </a:ln>
        </p:spPr>
      </p:cxnSp>
      <p:cxnSp>
        <p:nvCxnSpPr>
          <p:cNvPr id="182" name="AutoShape 23"/>
          <p:cNvCxnSpPr/>
          <p:nvPr/>
        </p:nvCxnSpPr>
        <p:spPr>
          <a:xfrm flipV="1">
            <a:off x="1676520" y="1980720"/>
            <a:ext cx="4953240" cy="3734640"/>
          </a:xfrm>
          <a:prstGeom prst="straightConnector1">
            <a:avLst/>
          </a:prstGeom>
          <a:ln w="28440">
            <a:solidFill>
              <a:srgbClr val="0c18f4"/>
            </a:solidFill>
            <a:miter/>
          </a:ln>
        </p:spPr>
      </p:cxnSp>
      <p:sp>
        <p:nvSpPr>
          <p:cNvPr id="183" name="Text Box 24"/>
          <p:cNvSpPr/>
          <p:nvPr/>
        </p:nvSpPr>
        <p:spPr>
          <a:xfrm>
            <a:off x="2120040" y="233352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f mode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4876920" y="3352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5410080" y="3352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4191120" y="38862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457200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6172200" y="2590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505320" y="45720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3048120" y="49528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2362320" y="52578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33"/>
          <p:cNvCxnSpPr>
            <a:stCxn id="193" idx="1"/>
          </p:cNvCxnSpPr>
          <p:nvPr/>
        </p:nvCxnSpPr>
        <p:spPr>
          <a:xfrm flipH="1" flipV="1">
            <a:off x="4723920" y="4114440"/>
            <a:ext cx="1051920" cy="4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Text Box 34"/>
          <p:cNvSpPr/>
          <p:nvPr/>
        </p:nvSpPr>
        <p:spPr>
          <a:xfrm>
            <a:off x="5778000" y="3749760"/>
            <a:ext cx="26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rsus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3962520" y="48006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36"/>
          <p:cNvCxnSpPr/>
          <p:nvPr/>
        </p:nvCxnSpPr>
        <p:spPr>
          <a:xfrm flipH="1" flipV="1">
            <a:off x="4129920" y="4830120"/>
            <a:ext cx="1051560" cy="19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Text Box 37"/>
          <p:cNvSpPr/>
          <p:nvPr/>
        </p:nvSpPr>
        <p:spPr>
          <a:xfrm>
            <a:off x="5244480" y="47721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ia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76280" y="188424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s betwee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1"/>
          <p:cNvGraphicFramePr/>
          <p:nvPr/>
        </p:nvGraphicFramePr>
        <p:xfrm>
          <a:off x="285840" y="2786040"/>
          <a:ext cx="85820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786040"/>
                    <a:ext cx="85820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476280" y="188424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: Modelling of polymer blend You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arison between experiment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lculated young modulu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rcRect l="674" t="5627" r="13133" b="2181"/>
          <a:stretch/>
        </p:blipFill>
        <p:spPr>
          <a:xfrm>
            <a:off x="1643040" y="3143160"/>
            <a:ext cx="5357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measurement i={1, 2, …, 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umber of component j={1, 2, …, m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ample : concentration, temperature, molecular weigh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erating condition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measurement of j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component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ample for continuous experiments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ime of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d valu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measurement of j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component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sponding predicted val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sponding unknown true val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unknown true values :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 erro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410080" y="4524480"/>
                <a:ext cx="1371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6013440" y="4981680"/>
                <a:ext cx="1530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3746520" y="5867280"/>
                <a:ext cx="2577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7924680" y="3352680"/>
                <a:ext cx="400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7165800" y="4216320"/>
                <a:ext cx="37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rror modelling (replications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pendant gaussian errors with average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icative erro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ditive errors :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ability dens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ed parameters val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9"/>
              <p:cNvSpPr txBox="1"/>
              <p:nvPr/>
            </p:nvSpPr>
            <p:spPr>
              <a:xfrm>
                <a:off x="3803760" y="2743200"/>
                <a:ext cx="2597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090960" y="3200400"/>
                <a:ext cx="2303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2819520" y="3886200"/>
                <a:ext cx="36957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p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2"/>
              <p:cNvSpPr txBox="1"/>
              <p:nvPr/>
            </p:nvSpPr>
            <p:spPr>
              <a:xfrm>
                <a:off x="2766960" y="5410080"/>
                <a:ext cx="3762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f>
                      <m:num>
                        <m:r>
                          <m:t xml:space="preserve">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j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3"/>
              <p:cNvSpPr txBox="1"/>
              <p:nvPr/>
            </p:nvSpPr>
            <p:spPr>
              <a:xfrm>
                <a:off x="5181480" y="6172200"/>
                <a:ext cx="244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func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imation of the measurement erro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estim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730600" y="3772080"/>
                <a:ext cx="3381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2236680" y="4952880"/>
                <a:ext cx="45403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¶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sup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i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j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sSub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rPr>
                                                            <m:lit/>
                                                            <m:nor/>
                                                          </m:rPr>
                                                          <m:t xml:space="preserve">ij</m:t>
                                                        </m:r>
                                                      </m:sub>
                                                    </m:sSub>
                                                    <m:r>
                                                      <m:t xml:space="preserve">,</m:t>
                                                    </m:r>
                                                    <m:r>
                                                      <m:t xml:space="preserve">q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¶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1219320" y="2475000"/>
                <a:ext cx="647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p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p/>
                                        </m:sSup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ers estimation by minimization of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tal number of freedom degre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total number of measurements - parameters number - variances number +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biased estimation of measurement error varianc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322360" y="2451240"/>
                <a:ext cx="4270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q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2666880" y="4114800"/>
                <a:ext cx="38862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2895480" y="5562720"/>
                <a:ext cx="34099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B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1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unknown average and variance of n gaussian hazards y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 gives biased vari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1857240" y="2293920"/>
                <a:ext cx="56707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m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V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j¹i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pV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787400" y="3807000"/>
                <a:ext cx="50022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den>
                        </m:f>
                        <m:r>
                          <m:t xml:space="preserve">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905120" y="5511960"/>
                <a:ext cx="51814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m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freedom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rPr>
                            <m:lit/>
                            <m:nor/>
                          </m:rPr>
                          <m:t xml:space="preserve">ree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2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unknown C (and T), measurement of P and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metric identific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1057320" y="2486160"/>
                <a:ext cx="7124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T</m:t>
                        </m:r>
                        <m:r>
                          <m:rPr>
                            <m:lit/>
                            <m:nor/>
                          </m:rPr>
                          <m:t xml:space="preserve">unknown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ces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R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R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1066680" y="3879720"/>
                <a:ext cx="5923080" cy="25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R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  <m:r>
                                  <m:t xml:space="preserve">R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  <m:r>
                                      <m:t xml:space="preserve">R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Arial"/>
              </a:rPr>
              <a:t>Parametric identification</a:t>
            </a:r>
            <a:br>
              <a:rPr sz="3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kelyhood Maximu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ample 3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erpolymerization in tubular re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69 parameters) styrene/a-methylstyrene/acr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rs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tep : simultaneously indentification of 23 parameters (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tep : simultaneously indentification of the 69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33:56Z</dcterms:created>
  <dc:creator>Sylvette FONTEIX</dc:creator>
  <dc:description/>
  <dc:language>en-US</dc:language>
  <cp:lastModifiedBy>Christian Fonteix</cp:lastModifiedBy>
  <dcterms:modified xsi:type="dcterms:W3CDTF">2012-03-13T16:39:03Z</dcterms:modified>
  <cp:revision>54</cp:revision>
  <dc:subject/>
  <dc:title>Process modelling and optimisation aid</dc:title>
</cp:coreProperties>
</file>